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FB44-4C9E-46D1-8EDF-E5F248EB35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CC4A-08DE-4627-8EE0-D1938806F5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F92-DC61-4071-857D-14436E62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017-3AA0-4147-9804-30521242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AA4-106D-482B-B7E1-63BD8992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E8A-4F63-4B6C-9915-A95FD754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7C0-A790-4C69-856D-92958C95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730-5AD0-4C2F-84DF-68BB216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D47-FF8D-466F-B9E3-5CCFE617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041-9659-441E-832B-ABE3D94B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FF7-C6EA-4744-8C28-FB3FA62E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0AF-42EA-4D44-8CC9-A0A4709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6C9-2405-4BC9-ACEB-A5E8FBB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788-8E74-4DC9-8EC5-01298E2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5714-3552-4C13-A11C-58174ED61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Mattapoisettseal.gif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bp0.blogger.com/_uQR5uTTeFlc/R1ZE1Bv0yaI/AAAAAAAAAQ8/nupvTCHffrs/s400/hardwick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2500200"/>
            <a:ext cx="6215040" cy="11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COMMANDER LOW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4"/>
          <p:cNvCxnSpPr/>
          <p:nvPr/>
        </p:nvCxnSpPr>
        <p:spPr>
          <a:xfrm flipH="1">
            <a:off x="2571480" y="3713760"/>
            <a:ext cx="107208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5"/>
          <p:cNvSpPr/>
          <p:nvPr/>
        </p:nvSpPr>
        <p:spPr>
          <a:xfrm>
            <a:off x="571680" y="4000680"/>
            <a:ext cx="285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atus im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uthority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ilitary – 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ersonality traits sugges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rol, forc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85840" y="428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00000"/>
                </a:solidFill>
                <a:latin typeface="Calibri"/>
              </a:rPr>
              <a:t>What does the titl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1"/>
          <p:cNvCxnSpPr/>
          <p:nvPr/>
        </p:nvCxnSpPr>
        <p:spPr>
          <a:xfrm flipV="1">
            <a:off x="6000480" y="1643040"/>
            <a:ext cx="7866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14"/>
          <p:cNvSpPr/>
          <p:nvPr/>
        </p:nvSpPr>
        <p:spPr>
          <a:xfrm>
            <a:off x="5143680" y="357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ersonal context  expl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lf-reflexive perhaps ?  – exploring the constructs of his own person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stanford.edu/group/auden/cgi-bin/auden/media/rtsLowellIII_abt1920.jpg"/>
          <p:cNvPicPr/>
          <p:nvPr/>
        </p:nvPicPr>
        <p:blipFill>
          <a:blip r:embed="rId1"/>
          <a:stretch/>
        </p:blipFill>
        <p:spPr>
          <a:xfrm>
            <a:off x="5143680" y="3429000"/>
            <a:ext cx="19922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Forming a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re is the sat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es he critici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the allusions to Fr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ould you describe Lowell’s parent’s marri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do you think Lowell is ambival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you think the title means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7855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were no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 undesirables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r girls in my se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6760" y="1785960"/>
            <a:ext cx="72867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I was a boy at Mattapoisett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Mother,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ill her Father’s daugh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r voice was still elect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 a hysterical, unmarried panic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she read to me from the Napoleon b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attapoisett.net/Pages/MattapoisettMA_WebDocs/00C6DB18-000F8513.0/sailboatsunset3.jpg"/>
          <p:cNvPicPr/>
          <p:nvPr/>
        </p:nvPicPr>
        <p:blipFill>
          <a:blip r:embed="rId1"/>
          <a:stretch/>
        </p:blipFill>
        <p:spPr>
          <a:xfrm>
            <a:off x="6357960" y="2071800"/>
            <a:ext cx="2643120" cy="176184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15"/>
          <p:cNvCxnSpPr/>
          <p:nvPr/>
        </p:nvCxnSpPr>
        <p:spPr>
          <a:xfrm>
            <a:off x="5500800" y="2142720"/>
            <a:ext cx="7149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Straight Connector 17"/>
          <p:cNvSpPr/>
          <p:nvPr/>
        </p:nvSpPr>
        <p:spPr>
          <a:xfrm flipH="1">
            <a:off x="1999800" y="1714680"/>
            <a:ext cx="107172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upload.wikimedia.org/wikipedia/commons/b/be/Mattapoisett_ma_highlight.png"/>
          <p:cNvPicPr/>
          <p:nvPr/>
        </p:nvPicPr>
        <p:blipFill>
          <a:blip r:embed="rId2"/>
          <a:stretch/>
        </p:blipFill>
        <p:spPr>
          <a:xfrm>
            <a:off x="3786120" y="4714920"/>
            <a:ext cx="4002120" cy="186696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22"/>
          <p:cNvCxnSpPr/>
          <p:nvPr/>
        </p:nvCxnSpPr>
        <p:spPr>
          <a:xfrm>
            <a:off x="4786200" y="2214720"/>
            <a:ext cx="1929600" cy="30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2" name="Picture 10" descr="http://upload.wikimedia.org/wikipedia/en/thumb/5/55/Mattapoisettseal.gif/100px-Mattapoisettseal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5120" y="357120"/>
            <a:ext cx="1381320" cy="129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857840"/>
            <a:ext cx="2428920" cy="15541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27"/>
          <p:cNvCxnSpPr/>
          <p:nvPr/>
        </p:nvCxnSpPr>
        <p:spPr>
          <a:xfrm>
            <a:off x="1856160" y="2714760"/>
            <a:ext cx="500760" cy="207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TextBox 28"/>
          <p:cNvSpPr/>
          <p:nvPr/>
        </p:nvSpPr>
        <p:spPr>
          <a:xfrm>
            <a:off x="857160" y="35712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2060"/>
                </a:solidFill>
                <a:latin typeface="Calibri"/>
              </a:rPr>
              <a:t>Unflattering image of mother opens po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0"/>
          <p:cNvCxnSpPr>
            <a:stCxn id="65" idx="2"/>
          </p:cNvCxnSpPr>
          <p:nvPr/>
        </p:nvCxnSpPr>
        <p:spPr>
          <a:xfrm flipH="1">
            <a:off x="3927240" y="819000"/>
            <a:ext cx="216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6760" y="500040"/>
            <a:ext cx="8115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ong-nosed Marie Loui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apsburg in the frontispie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ad a downright Boston bashfulnes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re she grovelled to Bonaparte, who scratched his nave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bolted his food – just my seven years tal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I, bristling and manic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kulked in the attic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got two hundred French generals by nam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rom A to V – from Augereau to Vandam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 used to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dop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myself aslee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aming those unpronounceables like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sheep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www.fayette.k12.in.us/cmslmc/classproj/flex/france-french-flag-thumb.jpg"/>
          <p:cNvPicPr/>
          <p:nvPr/>
        </p:nvPicPr>
        <p:blipFill>
          <a:blip r:embed="rId1"/>
          <a:stretch/>
        </p:blipFill>
        <p:spPr>
          <a:xfrm>
            <a:off x="6357960" y="2428920"/>
            <a:ext cx="2571840" cy="405756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5"/>
          <p:cNvCxnSpPr/>
          <p:nvPr/>
        </p:nvCxnSpPr>
        <p:spPr>
          <a:xfrm flipV="1">
            <a:off x="4786200" y="856440"/>
            <a:ext cx="15724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6"/>
          <p:cNvSpPr/>
          <p:nvPr/>
        </p:nvSpPr>
        <p:spPr>
          <a:xfrm>
            <a:off x="6572160" y="4287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y the French ref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8"/>
          <p:cNvCxnSpPr/>
          <p:nvPr/>
        </p:nvCxnSpPr>
        <p:spPr>
          <a:xfrm flipH="1">
            <a:off x="4642560" y="5286240"/>
            <a:ext cx="7153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xtBox 9"/>
          <p:cNvSpPr/>
          <p:nvPr/>
        </p:nvSpPr>
        <p:spPr>
          <a:xfrm>
            <a:off x="1214280" y="5715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at does this suggest about his charac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1"/>
          <p:cNvCxnSpPr/>
          <p:nvPr/>
        </p:nvCxnSpPr>
        <p:spPr>
          <a:xfrm>
            <a:off x="2070720" y="4857480"/>
            <a:ext cx="28620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785520"/>
            <a:ext cx="7758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ing a naval </a:t>
            </a: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offic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my Father was nothing to sh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bout to the summer colony at “Mat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wasn’t at all </a:t>
            </a: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“serious,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he showed up on the golf cours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aring a blue </a:t>
            </a: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serge jacket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d numbly c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white duck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’d b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t a Pearl Harbour commissaria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4"/>
          <p:cNvCxnSpPr/>
          <p:nvPr/>
        </p:nvCxnSpPr>
        <p:spPr>
          <a:xfrm>
            <a:off x="4714920" y="2857680"/>
            <a:ext cx="929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5"/>
          <p:cNvSpPr/>
          <p:nvPr/>
        </p:nvSpPr>
        <p:spPr>
          <a:xfrm>
            <a:off x="5786280" y="27147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How is ‘serious’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7"/>
          <p:cNvCxnSpPr/>
          <p:nvPr/>
        </p:nvCxnSpPr>
        <p:spPr>
          <a:xfrm>
            <a:off x="4428720" y="1071720"/>
            <a:ext cx="786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8"/>
          <p:cNvSpPr/>
          <p:nvPr/>
        </p:nvSpPr>
        <p:spPr>
          <a:xfrm>
            <a:off x="5643720" y="357120"/>
            <a:ext cx="32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y do you think he does not state his rank even though the poem is titled “Commande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://www.paoyeomanry.co.uk/Yeomanry/LDY/ColThompson.jpg"/>
          <p:cNvPicPr/>
          <p:nvPr/>
        </p:nvPicPr>
        <p:blipFill>
          <a:blip r:embed="rId1"/>
          <a:stretch/>
        </p:blipFill>
        <p:spPr>
          <a:xfrm>
            <a:off x="6357960" y="4357800"/>
            <a:ext cx="1785960" cy="221436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11"/>
          <p:cNvCxnSpPr/>
          <p:nvPr/>
        </p:nvCxnSpPr>
        <p:spPr>
          <a:xfrm>
            <a:off x="4642920" y="4214520"/>
            <a:ext cx="14295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1" name="Picture 7" descr="http://www.pwfdhistory.com/images/ahlco/fam_cella_family_web.jpg"/>
          <p:cNvPicPr/>
          <p:nvPr/>
        </p:nvPicPr>
        <p:blipFill>
          <a:blip r:embed="rId2"/>
          <a:stretch/>
        </p:blipFill>
        <p:spPr>
          <a:xfrm>
            <a:off x="1928880" y="5429160"/>
            <a:ext cx="3429000" cy="12765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14"/>
          <p:cNvCxnSpPr/>
          <p:nvPr/>
        </p:nvCxnSpPr>
        <p:spPr>
          <a:xfrm>
            <a:off x="999720" y="4857480"/>
            <a:ext cx="150084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15"/>
          <p:cNvSpPr/>
          <p:nvPr/>
        </p:nvSpPr>
        <p:spPr>
          <a:xfrm>
            <a:off x="8215200" y="35719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at does this image tell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287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nd took four shots with his putter to sink his put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ob”, they said, “golf’s a game you really ought to know how to play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f you play at all”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y wrote him off as “naval,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aturally supposed his sport was sail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Poor Father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, his training was engineering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heerful and </a:t>
            </a: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w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mong the </a:t>
            </a:r>
            <a:r>
              <a:rPr b="1" lang="en-AU" sz="2200" spc="-1" strike="noStrike">
                <a:solidFill>
                  <a:srgbClr val="ff0000"/>
                </a:solidFill>
                <a:latin typeface="Calibri"/>
              </a:rPr>
              <a:t>seadogs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at the Sunday yacht club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he was never one of the crow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4"/>
          <p:cNvCxnSpPr/>
          <p:nvPr/>
        </p:nvCxnSpPr>
        <p:spPr>
          <a:xfrm>
            <a:off x="2999880" y="3142800"/>
            <a:ext cx="715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5"/>
          <p:cNvSpPr/>
          <p:nvPr/>
        </p:nvSpPr>
        <p:spPr>
          <a:xfrm>
            <a:off x="4214880" y="2928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7"/>
          <p:cNvCxnSpPr/>
          <p:nvPr/>
        </p:nvCxnSpPr>
        <p:spPr>
          <a:xfrm>
            <a:off x="2214720" y="3643200"/>
            <a:ext cx="100080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TextBox 8"/>
          <p:cNvSpPr/>
          <p:nvPr/>
        </p:nvSpPr>
        <p:spPr>
          <a:xfrm>
            <a:off x="3000240" y="46432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10"/>
          <p:cNvCxnSpPr/>
          <p:nvPr/>
        </p:nvCxnSpPr>
        <p:spPr>
          <a:xfrm flipV="1">
            <a:off x="1857240" y="2356560"/>
            <a:ext cx="41443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TextBox 11"/>
          <p:cNvSpPr/>
          <p:nvPr/>
        </p:nvSpPr>
        <p:spPr>
          <a:xfrm>
            <a:off x="6143760" y="21430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atronising 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www.kitschiro.com/images/playing_golf.jpg"/>
          <p:cNvPicPr/>
          <p:nvPr/>
        </p:nvPicPr>
        <p:blipFill>
          <a:blip r:embed="rId1"/>
          <a:stretch/>
        </p:blipFill>
        <p:spPr>
          <a:xfrm>
            <a:off x="5929200" y="2793960"/>
            <a:ext cx="24577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nchors aweigh,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Daddy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boomed in his bathtu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chors aweigh,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en Lever Brothers offered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im double what the Navy pa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nagged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for his dress sword with gold brai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cringed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because Mother,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ps on all her teeth, was born a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t forty. With seamanlike celeri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ather left the Na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deeded Mother his prop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4"/>
          <p:cNvCxnSpPr/>
          <p:nvPr/>
        </p:nvCxnSpPr>
        <p:spPr>
          <a:xfrm>
            <a:off x="1213920" y="1571400"/>
            <a:ext cx="36442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TextBox 5"/>
          <p:cNvSpPr/>
          <p:nvPr/>
        </p:nvSpPr>
        <p:spPr>
          <a:xfrm>
            <a:off x="4643280" y="18572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erm of endea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7"/>
          <p:cNvCxnSpPr/>
          <p:nvPr/>
        </p:nvCxnSpPr>
        <p:spPr>
          <a:xfrm>
            <a:off x="1500120" y="3500280"/>
            <a:ext cx="42156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TextBox 8"/>
          <p:cNvSpPr/>
          <p:nvPr/>
        </p:nvSpPr>
        <p:spPr>
          <a:xfrm>
            <a:off x="5643720" y="385776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at does this tell you about Low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0"/>
          <p:cNvCxnSpPr/>
          <p:nvPr/>
        </p:nvCxnSpPr>
        <p:spPr>
          <a:xfrm>
            <a:off x="1714320" y="4000680"/>
            <a:ext cx="421488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11"/>
          <p:cNvSpPr/>
          <p:nvPr/>
        </p:nvSpPr>
        <p:spPr>
          <a:xfrm>
            <a:off x="5857920" y="49291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hy? What tension is set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loveleaf.net/ts/image/778_lg.jpg"/>
          <p:cNvPicPr/>
          <p:nvPr/>
        </p:nvPicPr>
        <p:blipFill>
          <a:blip r:embed="rId1"/>
          <a:stretch/>
        </p:blipFill>
        <p:spPr>
          <a:xfrm>
            <a:off x="7072200" y="428760"/>
            <a:ext cx="1514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was soon fired. Year after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still hummed “Anchors aweigh” in the tub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ever he left a job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bought a smarter c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ather’s last emplo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as Scudder, Stevens and Clark, Investment Advisor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imself his only cl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le Mother dragged to bed alon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ad Menning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d grew more and more 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suspicious,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grew 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defiant.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4"/>
          <p:cNvCxnSpPr/>
          <p:nvPr/>
        </p:nvCxnSpPr>
        <p:spPr>
          <a:xfrm>
            <a:off x="3071520" y="478584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TextBox 7"/>
          <p:cNvSpPr/>
          <p:nvPr/>
        </p:nvSpPr>
        <p:spPr>
          <a:xfrm>
            <a:off x="4429080" y="4572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sychiatr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8"/>
          <p:cNvCxnSpPr/>
          <p:nvPr/>
        </p:nvCxnSpPr>
        <p:spPr>
          <a:xfrm>
            <a:off x="3928680" y="37148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TextBox 10"/>
          <p:cNvSpPr/>
          <p:nvPr/>
        </p:nvSpPr>
        <p:spPr>
          <a:xfrm>
            <a:off x="528624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neff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500880" y="44290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tension between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400" y="999720"/>
            <a:ext cx="67150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ight after nigh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á la clart</a:t>
            </a:r>
            <a:r>
              <a:rPr b="0" lang="en-AU" sz="3200" spc="-1" strike="noStrike">
                <a:solidFill>
                  <a:srgbClr val="000000"/>
                </a:solidFill>
                <a:latin typeface="Albertus Extra Bold"/>
              </a:rPr>
              <a:t>é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AU" sz="3200" spc="-1" strike="noStrike">
                <a:solidFill>
                  <a:srgbClr val="000000"/>
                </a:solidFill>
                <a:latin typeface="Albertus Extra Bold"/>
              </a:rPr>
              <a:t>é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rte de sa lamp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d his ivory Annapolis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de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ross a pad of graph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iker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culations! In three year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quandered 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xty thousand doll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blogs.kansas.com/weblog/files/gambling1.jpg"/>
          <p:cNvPicPr/>
          <p:nvPr/>
        </p:nvPicPr>
        <p:blipFill>
          <a:blip r:embed="rId1"/>
          <a:stretch/>
        </p:blipFill>
        <p:spPr>
          <a:xfrm>
            <a:off x="3286080" y="4714920"/>
            <a:ext cx="1849320" cy="1843200"/>
          </a:xfrm>
          <a:prstGeom prst="rect">
            <a:avLst/>
          </a:prstGeom>
          <a:ln w="0">
            <a:noFill/>
          </a:ln>
        </p:spPr>
      </p:pic>
      <p:cxnSp>
        <p:nvCxnSpPr>
          <p:cNvPr id="109" name="Straight Arrow Connector 5"/>
          <p:cNvCxnSpPr/>
          <p:nvPr/>
        </p:nvCxnSpPr>
        <p:spPr>
          <a:xfrm>
            <a:off x="5714640" y="28576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8"/>
          <p:cNvSpPr/>
          <p:nvPr/>
        </p:nvSpPr>
        <p:spPr>
          <a:xfrm>
            <a:off x="7215120" y="2643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sibi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7"/>
          <p:cNvCxnSpPr/>
          <p:nvPr/>
        </p:nvCxnSpPr>
        <p:spPr>
          <a:xfrm flipV="1">
            <a:off x="4071600" y="928800"/>
            <a:ext cx="8578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9"/>
          <p:cNvSpPr/>
          <p:nvPr/>
        </p:nvSpPr>
        <p:spPr>
          <a:xfrm>
            <a:off x="4429080" y="2142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Loosely translated - has deserted the brightness of the l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356760"/>
            <a:ext cx="7186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miling on al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ather was once successful enough to be 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e mob of ruling-class Bostoni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early as 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1928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 owned a house converted to oi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redecorated by th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f St. Mark’s School...Its main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as a drawing room, “longitudinal as Versailles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ts ceiling, roughened with oatmeal, was blue as the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o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ineteen, the 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youngest ensign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his clas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e was “the old man” of a gunboat on the Yangt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3"/>
          <p:cNvCxnSpPr/>
          <p:nvPr/>
        </p:nvCxnSpPr>
        <p:spPr>
          <a:xfrm>
            <a:off x="2357280" y="571680"/>
            <a:ext cx="12153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5"/>
          <p:cNvCxnSpPr/>
          <p:nvPr/>
        </p:nvCxnSpPr>
        <p:spPr>
          <a:xfrm>
            <a:off x="2642760" y="1928880"/>
            <a:ext cx="715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8"/>
          <p:cNvCxnSpPr/>
          <p:nvPr/>
        </p:nvCxnSpPr>
        <p:spPr>
          <a:xfrm flipV="1">
            <a:off x="3142800" y="4500360"/>
            <a:ext cx="7153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TextBox 9"/>
          <p:cNvSpPr/>
          <p:nvPr/>
        </p:nvSpPr>
        <p:spPr>
          <a:xfrm>
            <a:off x="3857760" y="428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143680" y="16430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Interwar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929040" y="428616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hero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indobestseller.files.wordpress.com/2009/11/sungai-yangtze.jpg"/>
          <p:cNvPicPr/>
          <p:nvPr/>
        </p:nvPicPr>
        <p:blipFill>
          <a:blip r:embed="rId1"/>
          <a:stretch/>
        </p:blipFill>
        <p:spPr>
          <a:xfrm>
            <a:off x="7072200" y="4286160"/>
            <a:ext cx="1859040" cy="242892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14"/>
          <p:cNvCxnSpPr/>
          <p:nvPr/>
        </p:nvCxnSpPr>
        <p:spPr>
          <a:xfrm>
            <a:off x="6000480" y="5643720"/>
            <a:ext cx="85788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Box 15"/>
          <p:cNvSpPr/>
          <p:nvPr/>
        </p:nvSpPr>
        <p:spPr>
          <a:xfrm>
            <a:off x="5357880" y="6143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hines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2:44:32Z</dcterms:created>
  <dc:creator>user</dc:creator>
  <dc:description/>
  <dc:language>en-US</dc:language>
  <cp:lastModifiedBy>user</cp:lastModifiedBy>
  <dcterms:modified xsi:type="dcterms:W3CDTF">2010-06-02T08:57:02Z</dcterms:modified>
  <cp:revision>33</cp:revision>
  <dc:subject/>
  <dc:title>COMMANDER LOWELL</dc:title>
</cp:coreProperties>
</file>